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3FD-6A07-40F7-9041-B582288F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729-476F-46D4-A39E-185B5205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BAE-4AF5-4A82-BCAA-405C52FC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86C-FE05-4185-8CC9-B7C9C8F7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65C-2F38-40AA-A264-4ED28FDC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425-CFEA-4B2D-B79E-60A434FA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9B7-10D0-452C-967B-CCD18F31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3E3-1BA9-4D6D-B5D0-CCA11ADB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94C-90F0-4F72-BDEA-A8822D90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074-949B-48DD-B3C6-C829321B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4A2-F2A4-4F80-A653-DF241B76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7D8-D2A4-403F-8B3C-30430B25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CFAC-C096-434C-9EE3-3BFC9B78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1" Type="http://schemas.microsoft.com/office/2007/relationships/media" Target="file:///tmp/home/.config/libreoffice/4/user/gallery/&#1047;&#1072;&#1087;&#1080;&#1089;&#1072;&#1085;&#1085;&#1099;&#1081;%20&#1079;&#1074;&#1091;&#1082;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cc"/>
            </a:gs>
            <a:gs pos="100000">
              <a:srgbClr val="fda3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простая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2670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адываем и вычитаем до п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еня было три конфеты, бабушка угостила меня еще одной конфетой. Сколько конфет у меня всего?  (3+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86600" y="2743200"/>
            <a:ext cx="990720" cy="2742840"/>
            <a:chOff x="7086600" y="2743200"/>
            <a:chExt cx="990720" cy="2742840"/>
          </a:xfrm>
        </p:grpSpPr>
        <p:sp>
          <p:nvSpPr>
            <p:cNvPr id="193" name=""/>
            <p:cNvSpPr/>
            <p:nvPr/>
          </p:nvSpPr>
          <p:spPr>
            <a:xfrm>
              <a:off x="7227720" y="3189600"/>
              <a:ext cx="707760" cy="1849680"/>
            </a:xfrm>
            <a:custGeom>
              <a:avLst/>
              <a:gdLst>
                <a:gd name="textAreaLeft" fmla="*/ 34560 w 707760"/>
                <a:gd name="textAreaRight" fmla="*/ 673200 w 707760"/>
                <a:gd name="textAreaTop" fmla="*/ 34560 h 1849680"/>
                <a:gd name="textAreaBottom" fmla="*/ 1815120 h 1849680"/>
              </a:gdLst>
              <a:ahLst/>
              <a:rect l="textAreaLeft" t="textAreaTop" r="textAreaRight" b="textAreaBottom"/>
              <a:pathLst>
                <a:path w="21600" h="56432">
                  <a:moveTo>
                    <a:pt x="3600" y="0"/>
                  </a:moveTo>
                  <a:arcTo wR="3600" hR="3600" stAng="16200000" swAng="-5400000"/>
                  <a:lnTo>
                    <a:pt x="0" y="52832"/>
                  </a:lnTo>
                  <a:arcTo wR="3600" hR="3600" stAng="10800000" swAng="-5400000"/>
                  <a:lnTo>
                    <a:pt x="18000" y="56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6600" y="274320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7086600" y="503964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79280" y="3381120"/>
              <a:ext cx="48528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сласт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47920" y="2362320"/>
            <a:ext cx="838080" cy="3200040"/>
            <a:chOff x="1447920" y="2362320"/>
            <a:chExt cx="838080" cy="3200040"/>
          </a:xfrm>
        </p:grpSpPr>
        <p:sp>
          <p:nvSpPr>
            <p:cNvPr id="198" name=""/>
            <p:cNvSpPr/>
            <p:nvPr/>
          </p:nvSpPr>
          <p:spPr>
            <a:xfrm rot="16200000">
              <a:off x="772920" y="3558960"/>
              <a:ext cx="2187720" cy="83808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17400" y="236232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0800000">
              <a:off x="1517400" y="504000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572000" y="2362320"/>
            <a:ext cx="838080" cy="3275640"/>
            <a:chOff x="4572000" y="2362320"/>
            <a:chExt cx="838080" cy="3275640"/>
          </a:xfrm>
        </p:grpSpPr>
        <p:sp>
          <p:nvSpPr>
            <p:cNvPr id="202" name=""/>
            <p:cNvSpPr/>
            <p:nvPr/>
          </p:nvSpPr>
          <p:spPr>
            <a:xfrm rot="16200000">
              <a:off x="3871080" y="3597840"/>
              <a:ext cx="2239920" cy="8380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41840" y="236232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800000">
              <a:off x="4641840" y="510336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124080" y="2362320"/>
            <a:ext cx="838440" cy="3276000"/>
            <a:chOff x="3124080" y="2362320"/>
            <a:chExt cx="838440" cy="3276000"/>
          </a:xfrm>
        </p:grpSpPr>
        <p:sp>
          <p:nvSpPr>
            <p:cNvPr id="206" name=""/>
            <p:cNvSpPr/>
            <p:nvPr/>
          </p:nvSpPr>
          <p:spPr>
            <a:xfrm rot="16200000">
              <a:off x="2423160" y="3597480"/>
              <a:ext cx="2239920" cy="83844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2362320"/>
              <a:ext cx="698760" cy="53460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800000">
              <a:off x="3193560" y="5103360"/>
              <a:ext cx="698760" cy="53496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960"/>
                <a:gd name="textAreaBottom" fmla="*/ 37296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026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267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674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три цветка, один она подарила Ире, другой – Кате. Сколько цветов осталось у Маши? (3-1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29040" y="2209680"/>
            <a:ext cx="2439360" cy="6544800"/>
            <a:chOff x="6629040" y="2209680"/>
            <a:chExt cx="2439360" cy="6544800"/>
          </a:xfrm>
        </p:grpSpPr>
        <p:sp>
          <p:nvSpPr>
            <p:cNvPr id="213" name=""/>
            <p:cNvSpPr/>
            <p:nvPr/>
          </p:nvSpPr>
          <p:spPr>
            <a:xfrm rot="5400000">
              <a:off x="6724800" y="2461320"/>
              <a:ext cx="1183680" cy="137556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76680" y="2348640"/>
              <a:ext cx="0" cy="278640"/>
            </a:xfrm>
            <a:prstGeom prst="line">
              <a:avLst/>
            </a:prstGeom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95680" y="2209680"/>
              <a:ext cx="162000" cy="208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29400" y="3741480"/>
              <a:ext cx="1132560" cy="501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481600">
              <a:off x="7923960" y="4367880"/>
              <a:ext cx="686160" cy="164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208" y="1581"/>
                    <a:pt x="8815" y="5080"/>
                    <a:pt x="8815" y="10800"/>
                  </a:cubicBezTo>
                  <a:cubicBezTo>
                    <a:pt x="8815" y="16520"/>
                    <a:pt x="15208" y="2001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33680" y="3532320"/>
              <a:ext cx="566640" cy="208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8600" y="2057400"/>
            <a:ext cx="2285640" cy="4267080"/>
            <a:chOff x="228600" y="2057400"/>
            <a:chExt cx="2285640" cy="4267080"/>
          </a:xfrm>
        </p:grpSpPr>
        <p:grpSp>
          <p:nvGrpSpPr>
            <p:cNvPr id="220" name=""/>
            <p:cNvGrpSpPr/>
            <p:nvPr/>
          </p:nvGrpSpPr>
          <p:grpSpPr>
            <a:xfrm>
              <a:off x="228600" y="2057400"/>
              <a:ext cx="2285640" cy="2209320"/>
              <a:chOff x="228600" y="2057400"/>
              <a:chExt cx="2285640" cy="220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514080" y="2333520"/>
                <a:ext cx="1714320" cy="165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8600" y="2057400"/>
                <a:ext cx="2285640" cy="2209320"/>
              </a:xfrm>
              <a:prstGeom prst="sun">
                <a:avLst>
                  <a:gd name="adj" fmla="val 22828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085760" y="2885760"/>
                <a:ext cx="571320" cy="5522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23880" y="3962520"/>
              <a:ext cx="0" cy="23619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319000">
              <a:off x="761760" y="502884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8445000">
              <a:off x="1447560" y="441936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920" y="2209680"/>
              <a:ext cx="2133360" cy="1905120"/>
            </a:xfrm>
            <a:prstGeom prst="sun">
              <a:avLst>
                <a:gd name="adj" fmla="val 4436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971080" y="2046960"/>
            <a:ext cx="2914920" cy="6967080"/>
            <a:chOff x="2971080" y="2046960"/>
            <a:chExt cx="2914920" cy="6967080"/>
          </a:xfrm>
        </p:grpSpPr>
        <p:grpSp>
          <p:nvGrpSpPr>
            <p:cNvPr id="229" name=""/>
            <p:cNvGrpSpPr/>
            <p:nvPr/>
          </p:nvGrpSpPr>
          <p:grpSpPr>
            <a:xfrm>
              <a:off x="3341880" y="2046960"/>
              <a:ext cx="2544120" cy="2617200"/>
              <a:chOff x="3341880" y="2046960"/>
              <a:chExt cx="2544120" cy="2617200"/>
            </a:xfrm>
          </p:grpSpPr>
          <p:sp>
            <p:nvSpPr>
              <p:cNvPr id="230" name=""/>
              <p:cNvSpPr/>
              <p:nvPr/>
            </p:nvSpPr>
            <p:spPr>
              <a:xfrm rot="21406200">
                <a:off x="4378680" y="205740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21200">
                <a:off x="4891680" y="215712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008800">
                <a:off x="5077440" y="2662920"/>
                <a:ext cx="398520" cy="118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5592000">
                <a:off x="3742920" y="276228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8905400">
                <a:off x="3865680" y="22564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346600">
                <a:off x="3967920" y="33526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294600">
                <a:off x="4481640" y="350244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873000">
                <a:off x="4975200" y="326052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79040" y="3103560"/>
                <a:ext cx="461520" cy="448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rot="11590800">
              <a:off x="3048120" y="5562000"/>
              <a:ext cx="1635120" cy="86652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19000" y="3831840"/>
              <a:ext cx="151560" cy="51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02" y="227"/>
                  </a:moveTo>
                  <a:arcTo wR="10800" hR="10800" stAng="-4694246" swAng="4694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02" y="227"/>
                  </a:moveTo>
                  <a:arcTo wR="10800" hR="10800" stAng="-4694246" swAng="4694246"/>
                </a:path>
              </a:pathLst>
            </a:cu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 rot="20510400">
              <a:off x="4191120" y="5409720"/>
              <a:ext cx="1447560" cy="103860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2332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983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38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323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ff"/>
            </a:gs>
            <a:gs pos="100000">
              <a:srgbClr val="fda3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92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ма подарила мне красный шарик, а папа дал синий шарик. Сколько шариков у меня всего?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+1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81080" y="2057400"/>
            <a:ext cx="1676520" cy="4419720"/>
            <a:chOff x="1981080" y="2057400"/>
            <a:chExt cx="1676520" cy="4419720"/>
          </a:xfrm>
        </p:grpSpPr>
        <p:sp>
          <p:nvSpPr>
            <p:cNvPr id="46" name=""/>
            <p:cNvSpPr/>
            <p:nvPr/>
          </p:nvSpPr>
          <p:spPr>
            <a:xfrm>
              <a:off x="1981080" y="2057400"/>
              <a:ext cx="1676520" cy="3048120"/>
            </a:xfrm>
            <a:prstGeom prst="ellipse">
              <a:avLst/>
            </a:prstGeom>
            <a:solidFill>
              <a:srgbClr val="e735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51055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2320" y="2743200"/>
              <a:ext cx="2286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52880" y="2057400"/>
            <a:ext cx="1676160" cy="4343400"/>
            <a:chOff x="4952880" y="2057400"/>
            <a:chExt cx="1676160" cy="4343400"/>
          </a:xfrm>
        </p:grpSpPr>
        <p:sp>
          <p:nvSpPr>
            <p:cNvPr id="50" name=""/>
            <p:cNvSpPr/>
            <p:nvPr/>
          </p:nvSpPr>
          <p:spPr>
            <a:xfrm>
              <a:off x="4952880" y="2057400"/>
              <a:ext cx="1676160" cy="3048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0960" y="50292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3760" y="2590920"/>
              <a:ext cx="22860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6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66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8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мы в корзинке два больших гриба, а у меня два маленьких грибка. Сколько всего у нас с мамой грибов? (2+2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4400" y="2590920"/>
            <a:ext cx="3352320" cy="3733200"/>
            <a:chOff x="914400" y="2590920"/>
            <a:chExt cx="3352320" cy="3733200"/>
          </a:xfrm>
        </p:grpSpPr>
        <p:sp>
          <p:nvSpPr>
            <p:cNvPr id="57" name=""/>
            <p:cNvSpPr/>
            <p:nvPr/>
          </p:nvSpPr>
          <p:spPr>
            <a:xfrm rot="5400000">
              <a:off x="1612800" y="3670200"/>
              <a:ext cx="1955520" cy="3352320"/>
            </a:xfrm>
            <a:prstGeom prst="flowChartDelay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2590920"/>
              <a:ext cx="3352320" cy="35557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181480" y="3124080"/>
            <a:ext cx="2590560" cy="2971440"/>
            <a:chOff x="5181480" y="3124080"/>
            <a:chExt cx="2590560" cy="2971440"/>
          </a:xfrm>
        </p:grpSpPr>
        <p:sp>
          <p:nvSpPr>
            <p:cNvPr id="60" name=""/>
            <p:cNvSpPr/>
            <p:nvPr/>
          </p:nvSpPr>
          <p:spPr>
            <a:xfrm rot="5400000">
              <a:off x="5698440" y="4021920"/>
              <a:ext cx="1556640" cy="259056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81480" y="3124080"/>
              <a:ext cx="2590560" cy="28303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886200"/>
            <a:ext cx="457200" cy="609120"/>
            <a:chOff x="5791320" y="3886200"/>
            <a:chExt cx="457200" cy="609120"/>
          </a:xfrm>
        </p:grpSpPr>
        <p:sp>
          <p:nvSpPr>
            <p:cNvPr id="63" name=""/>
            <p:cNvSpPr/>
            <p:nvPr/>
          </p:nvSpPr>
          <p:spPr>
            <a:xfrm>
              <a:off x="5905440" y="4089240"/>
              <a:ext cx="228600" cy="406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5867640" y="3809880"/>
              <a:ext cx="304560" cy="45720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629400" y="3962520"/>
            <a:ext cx="380880" cy="533160"/>
            <a:chOff x="6629400" y="3962520"/>
            <a:chExt cx="380880" cy="533160"/>
          </a:xfrm>
        </p:grpSpPr>
        <p:sp>
          <p:nvSpPr>
            <p:cNvPr id="66" name=""/>
            <p:cNvSpPr/>
            <p:nvPr/>
          </p:nvSpPr>
          <p:spPr>
            <a:xfrm>
              <a:off x="6724440" y="4140360"/>
              <a:ext cx="190440" cy="355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6686640" y="3905280"/>
              <a:ext cx="266400" cy="38088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447920" y="3200040"/>
            <a:ext cx="1142640" cy="1143000"/>
            <a:chOff x="1447920" y="3200040"/>
            <a:chExt cx="1142640" cy="1143000"/>
          </a:xfrm>
        </p:grpSpPr>
        <p:sp>
          <p:nvSpPr>
            <p:cNvPr id="69" name=""/>
            <p:cNvSpPr/>
            <p:nvPr/>
          </p:nvSpPr>
          <p:spPr>
            <a:xfrm>
              <a:off x="1733400" y="3581280"/>
              <a:ext cx="57168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1733400" y="2914200"/>
              <a:ext cx="571320" cy="114264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66880" y="3200040"/>
            <a:ext cx="990360" cy="1143000"/>
            <a:chOff x="2666880" y="3200040"/>
            <a:chExt cx="990360" cy="1143000"/>
          </a:xfrm>
        </p:grpSpPr>
        <p:sp>
          <p:nvSpPr>
            <p:cNvPr id="72" name=""/>
            <p:cNvSpPr/>
            <p:nvPr/>
          </p:nvSpPr>
          <p:spPr>
            <a:xfrm>
              <a:off x="2914200" y="3581280"/>
              <a:ext cx="49536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876400" y="2990520"/>
              <a:ext cx="571320" cy="99036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91440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8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868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54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2 книжки, одну она дала почитать подруж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книг осталось у Маши? (2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5120" y="2209680"/>
            <a:ext cx="2133360" cy="2819520"/>
            <a:chOff x="1905120" y="2209680"/>
            <a:chExt cx="2133360" cy="2819520"/>
          </a:xfrm>
        </p:grpSpPr>
        <p:sp>
          <p:nvSpPr>
            <p:cNvPr id="78" name=""/>
            <p:cNvSpPr/>
            <p:nvPr/>
          </p:nvSpPr>
          <p:spPr>
            <a:xfrm>
              <a:off x="1905120" y="2209680"/>
              <a:ext cx="2133360" cy="2819520"/>
            </a:xfrm>
            <a:prstGeom prst="cube">
              <a:avLst>
                <a:gd name="adj" fmla="val 611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73880" y="2612160"/>
              <a:ext cx="178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entury"/>
                </a:rPr>
                <a:t>СКАЗ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55200" y="3485160"/>
              <a:ext cx="963360" cy="939600"/>
            </a:xfrm>
            <a:prstGeom prst="smileyFace">
              <a:avLst>
                <a:gd name="adj" fmla="val 928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1768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1264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8120" y="4021920"/>
              <a:ext cx="206280" cy="66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800600" y="1905120"/>
            <a:ext cx="2666880" cy="3200400"/>
            <a:chOff x="4800600" y="1905120"/>
            <a:chExt cx="2666880" cy="3200400"/>
          </a:xfrm>
        </p:grpSpPr>
        <p:sp>
          <p:nvSpPr>
            <p:cNvPr id="85" name=""/>
            <p:cNvSpPr/>
            <p:nvPr/>
          </p:nvSpPr>
          <p:spPr>
            <a:xfrm>
              <a:off x="4876920" y="1905120"/>
              <a:ext cx="2590560" cy="3200400"/>
            </a:xfrm>
            <a:prstGeom prst="cube">
              <a:avLst>
                <a:gd name="adj" fmla="val 6115"/>
              </a:avLst>
            </a:prstGeom>
            <a:gradFill rotWithShape="0">
              <a:gsLst>
                <a:gs pos="0">
                  <a:srgbClr val="fda3a1"/>
                </a:gs>
                <a:gs pos="50000">
                  <a:srgbClr val="ffffff"/>
                </a:gs>
                <a:gs pos="100000">
                  <a:srgbClr val="fda3a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2438640"/>
              <a:ext cx="236232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ТИХ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ДЛ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АМЫХ МАЛЕНЬ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105520" y="4495680"/>
            <a:ext cx="609480" cy="533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133720"/>
            <a:ext cx="53316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92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2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72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етке пять листьев?  Два листика упало на землю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листьев осталось на ветке? (5-2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960" y="742680"/>
            <a:ext cx="5942880" cy="5733360"/>
            <a:chOff x="228960" y="742680"/>
            <a:chExt cx="5942880" cy="5733360"/>
          </a:xfrm>
        </p:grpSpPr>
        <p:sp>
          <p:nvSpPr>
            <p:cNvPr id="93" name=""/>
            <p:cNvSpPr/>
            <p:nvPr/>
          </p:nvSpPr>
          <p:spPr>
            <a:xfrm flipV="1">
              <a:off x="457200" y="2590560"/>
              <a:ext cx="541008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57560" y="912240"/>
              <a:ext cx="1675440" cy="396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6017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601759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960" y="4495680"/>
              <a:ext cx="39614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66880" y="989640"/>
              <a:ext cx="1218960" cy="289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391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39102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7080" y="3276360"/>
              <a:ext cx="25898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428280" y="4343400"/>
              <a:ext cx="243756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16" y="815"/>
                  </a:moveTo>
                  <a:arcTo wR="10800" hR="10800" stAng="-4055938" swAng="4055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16" y="815"/>
                  </a:moveTo>
                  <a:arcTo wR="10800" hR="10800" stAng="-4055938" swAng="4055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447560" y="2284920"/>
              <a:ext cx="1370880" cy="12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354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3540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257800" y="3430440"/>
              <a:ext cx="303840" cy="106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441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44109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24640" y="742680"/>
              <a:ext cx="1065960" cy="21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51" y="42"/>
                  </a:moveTo>
                  <a:arcTo wR="10800" hR="10800" stAng="-5096902" swAng="5279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51" y="42"/>
                  </a:moveTo>
                  <a:arcTo wR="10800" hR="10800" stAng="-5096902" swAng="527985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2742840"/>
              <a:ext cx="12189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353400" y="1904040"/>
              <a:ext cx="1065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448280" y="2970720"/>
              <a:ext cx="1218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3429000" y="1141920"/>
              <a:ext cx="9136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880" y="3504960"/>
              <a:ext cx="1218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81280" y="4952880"/>
              <a:ext cx="609120" cy="15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410080" y="1370880"/>
              <a:ext cx="6091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21304800">
            <a:off x="3200040" y="563868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161600">
            <a:off x="6095880" y="2819160"/>
            <a:ext cx="609840" cy="685800"/>
          </a:xfrm>
          <a:custGeom>
            <a:avLst/>
            <a:gdLst>
              <a:gd name="textAreaLeft" fmla="*/ 143280 w 609840"/>
              <a:gd name="textAreaRight" fmla="*/ 466200 w 60984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8890800">
            <a:off x="2894760" y="12949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1219600">
            <a:off x="4952880" y="40381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6385800">
            <a:off x="837360" y="26665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870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701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5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емле лежит два яблока, с ветки упало еще одно. Сколько яблок на земле? (2+1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71600" y="2874600"/>
            <a:ext cx="1447920" cy="2230560"/>
            <a:chOff x="1371600" y="2874600"/>
            <a:chExt cx="1447920" cy="2230560"/>
          </a:xfrm>
        </p:grpSpPr>
        <p:sp>
          <p:nvSpPr>
            <p:cNvPr id="118" name=""/>
            <p:cNvSpPr/>
            <p:nvPr/>
          </p:nvSpPr>
          <p:spPr>
            <a:xfrm>
              <a:off x="1371600" y="3830400"/>
              <a:ext cx="1447920" cy="12747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915200" y="2874240"/>
              <a:ext cx="360720" cy="95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14480" y="4998960"/>
              <a:ext cx="361800" cy="106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09880" y="3216240"/>
            <a:ext cx="1524240" cy="1964880"/>
            <a:chOff x="3809880" y="3216240"/>
            <a:chExt cx="1524240" cy="1964880"/>
          </a:xfrm>
        </p:grpSpPr>
        <p:sp>
          <p:nvSpPr>
            <p:cNvPr id="122" name=""/>
            <p:cNvSpPr/>
            <p:nvPr/>
          </p:nvSpPr>
          <p:spPr>
            <a:xfrm>
              <a:off x="3809880" y="3794040"/>
              <a:ext cx="1524240" cy="1387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45280" y="3215880"/>
              <a:ext cx="25344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1200" y="5065920"/>
              <a:ext cx="380880" cy="115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3048120"/>
            <a:ext cx="1371600" cy="2133000"/>
            <a:chOff x="6553080" y="3048120"/>
            <a:chExt cx="1371600" cy="2133000"/>
          </a:xfrm>
        </p:grpSpPr>
        <p:sp>
          <p:nvSpPr>
            <p:cNvPr id="126" name=""/>
            <p:cNvSpPr/>
            <p:nvPr/>
          </p:nvSpPr>
          <p:spPr>
            <a:xfrm>
              <a:off x="6553080" y="3962160"/>
              <a:ext cx="1371600" cy="12189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067880" y="3047760"/>
              <a:ext cx="34200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7160" y="5079600"/>
              <a:ext cx="342720" cy="10152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1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14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4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бе горит пять звездочек, одна погасл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звездочек теперь горит на небе? (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42900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18148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5105520"/>
            <a:ext cx="990720" cy="106668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905120"/>
            <a:ext cx="1143000" cy="121896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1447920"/>
            <a:ext cx="1067040" cy="114300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55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53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77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пирамидка из двух кубиков – покажи, какая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ая пирамидка из трех кубиков – покажи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всего кубиков в двух пирамидках? (2+3=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114800" y="2590920"/>
            <a:ext cx="1600200" cy="2514600"/>
            <a:chOff x="4114800" y="2590920"/>
            <a:chExt cx="1600200" cy="2514600"/>
          </a:xfrm>
        </p:grpSpPr>
        <p:sp>
          <p:nvSpPr>
            <p:cNvPr id="141" name=""/>
            <p:cNvSpPr/>
            <p:nvPr/>
          </p:nvSpPr>
          <p:spPr>
            <a:xfrm>
              <a:off x="4114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35268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8320" y="25909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76520" y="3276720"/>
            <a:ext cx="1218960" cy="1828800"/>
            <a:chOff x="1676520" y="3276720"/>
            <a:chExt cx="1218960" cy="1828800"/>
          </a:xfrm>
        </p:grpSpPr>
        <p:sp>
          <p:nvSpPr>
            <p:cNvPr id="145" name=""/>
            <p:cNvSpPr/>
            <p:nvPr/>
          </p:nvSpPr>
          <p:spPr>
            <a:xfrm>
              <a:off x="1828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2767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91440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69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690"/>
                            </p:stCondLst>
                            <p:childTnLst>
                              <p:par>
                                <p:cTn id="87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19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35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541"/>
                            </p:stCondLst>
                            <p:childTnLst>
                              <p:par>
                                <p:cTn id="93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41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80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7843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83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ебо полетел воздушный змей, по дороге одна ленточка оторвалась. Сколько ленточек осталось у воздушного змея? ( 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584400" y="-2576520"/>
            <a:ext cx="5556600" cy="6413400"/>
            <a:chOff x="6584400" y="-2576520"/>
            <a:chExt cx="5556600" cy="6413400"/>
          </a:xfrm>
        </p:grpSpPr>
        <p:sp>
          <p:nvSpPr>
            <p:cNvPr id="153" name=""/>
            <p:cNvSpPr/>
            <p:nvPr/>
          </p:nvSpPr>
          <p:spPr>
            <a:xfrm rot="1528200">
              <a:off x="9067680" y="1523520"/>
              <a:ext cx="563400" cy="84096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876800">
              <a:off x="8457840" y="2209320"/>
              <a:ext cx="563760" cy="84096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964200">
              <a:off x="7682400" y="2756160"/>
              <a:ext cx="56304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8966520" y="-2576520"/>
              <a:ext cx="3174480" cy="3704760"/>
              <a:chOff x="8966520" y="-2576520"/>
              <a:chExt cx="3174480" cy="3704760"/>
            </a:xfrm>
          </p:grpSpPr>
          <p:sp>
            <p:nvSpPr>
              <p:cNvPr id="157" name=""/>
              <p:cNvSpPr/>
              <p:nvPr/>
            </p:nvSpPr>
            <p:spPr>
              <a:xfrm rot="1246800">
                <a:off x="9448560" y="-228600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7446800">
                <a:off x="10130760" y="-14565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7446800">
                <a:off x="10799280" y="-12027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246800">
                <a:off x="10267560" y="-147204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246800">
                <a:off x="10936080" y="-121860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9301200">
                <a:off x="9917280" y="-118116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9841320" y="-429840"/>
                <a:ext cx="18288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774440" y="-20700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59200">
                <a:off x="10163520" y="-17496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246800">
                <a:off x="10257120" y="-1300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246800">
                <a:off x="10925640" y="-10468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4758000">
              <a:off x="6768000" y="3061080"/>
              <a:ext cx="563400" cy="841320"/>
            </a:xfrm>
            <a:prstGeom prst="flowChartCollat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16400">
              <a:off x="9524880" y="761760"/>
              <a:ext cx="563400" cy="85536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rot="4758000">
            <a:off x="1890720" y="5499720"/>
            <a:ext cx="563760" cy="841320"/>
          </a:xfrm>
          <a:prstGeom prst="flowChartCollat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02800" y="547560"/>
            <a:ext cx="4675680" cy="6182280"/>
            <a:chOff x="3502800" y="547560"/>
            <a:chExt cx="4675680" cy="6182280"/>
          </a:xfrm>
        </p:grpSpPr>
        <p:sp>
          <p:nvSpPr>
            <p:cNvPr id="172" name=""/>
            <p:cNvSpPr/>
            <p:nvPr/>
          </p:nvSpPr>
          <p:spPr>
            <a:xfrm rot="1528200">
              <a:off x="5104800" y="4647960"/>
              <a:ext cx="563760" cy="84132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76800">
              <a:off x="4495320" y="5333760"/>
              <a:ext cx="563400" cy="84132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3964200">
              <a:off x="3719520" y="5880960"/>
              <a:ext cx="56376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004000" y="547560"/>
              <a:ext cx="3174480" cy="3704760"/>
              <a:chOff x="5004000" y="547560"/>
              <a:chExt cx="3174480" cy="3704760"/>
            </a:xfrm>
          </p:grpSpPr>
          <p:sp>
            <p:nvSpPr>
              <p:cNvPr id="176" name=""/>
              <p:cNvSpPr/>
              <p:nvPr/>
            </p:nvSpPr>
            <p:spPr>
              <a:xfrm rot="1246800">
                <a:off x="5486040" y="83772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446800">
                <a:off x="6168960" y="166680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446800">
                <a:off x="6837480" y="192024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246800">
                <a:off x="6305400" y="165132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246800">
                <a:off x="6973920" y="190476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9301200">
                <a:off x="5955480" y="194148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878800" y="2693880"/>
                <a:ext cx="18324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12280" y="291672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059200">
                <a:off x="6201000" y="294840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246800">
                <a:off x="6294960" y="1822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246800">
                <a:off x="6963480" y="20764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1016400">
              <a:off x="5562000" y="3885840"/>
              <a:ext cx="563760" cy="85572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-6858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243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43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216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45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3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09-08-10T06:18:2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